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F9-48DB-463F-8C90-5D6188C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117-79D4-4B0A-8715-2DAE6D6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278-281A-494A-8AB5-A64CDEF5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57A-A053-46DA-AA5B-90F2B470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BDB-D0B1-4B9B-9327-9EB65395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433-CBCB-454B-90CF-18F8605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8D0-E77B-49BF-B174-4B9767D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A4C-B277-4E9A-A446-F0ADEF86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0C4-3CC7-4FFF-82C6-85DA040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D0C-449C-48B3-A187-4DA5B45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A4D-0B64-49A5-9E82-19EB392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DF0-956B-436F-BB0D-EAE817BC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237-ED54-42D1-AC2C-787440FE4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977760" y="722160"/>
            <a:ext cx="718848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44720" y="771480"/>
            <a:ext cx="705312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57400" y="817560"/>
            <a:ext cx="68292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112760" y="777960"/>
            <a:ext cx="69184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112760" y="822240"/>
            <a:ext cx="6918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11320" y="795240"/>
            <a:ext cx="69199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54000" y="727200"/>
            <a:ext cx="72342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57400" y="822240"/>
            <a:ext cx="68292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66680" y="755640"/>
            <a:ext cx="70088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22400" y="744480"/>
            <a:ext cx="7099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22400" y="731880"/>
            <a:ext cx="709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089000" y="782640"/>
            <a:ext cx="696456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44720" y="760320"/>
            <a:ext cx="70531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89000" y="771480"/>
            <a:ext cx="69645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8:31:14Z</dcterms:created>
  <dc:creator>bealst</dc:creator>
  <dc:description/>
  <dc:language>en-US</dc:language>
  <cp:lastModifiedBy>Ignacio</cp:lastModifiedBy>
  <dcterms:modified xsi:type="dcterms:W3CDTF">2010-11-07T14:02:28Z</dcterms:modified>
  <cp:revision>2</cp:revision>
  <dc:subject/>
  <dc:title>Slide 1</dc:title>
</cp:coreProperties>
</file>